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4164-38E6-4E7C-BA07-511472BA8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F7B8-44BB-462C-809B-039AB19399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19C8-119F-49EA-8BE6-943FDD2158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DA60-E619-4B0B-8C95-592167B4BA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9EFA-7D5D-43C2-B376-B1F1E6FC57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2292-CC48-4E41-A965-B9EDBBF588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B59B-70D0-4CA8-A03C-03723B8DAC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BBD5-3618-4686-A864-587C90363F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E8B3-74CB-4DFD-B3F7-23E3B77FCE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1D5D-63C3-478C-B361-051CBF09E2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9ECE-D289-4EE7-AC1B-5AAB1B0CEA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65F-525D-4668-8583-7C6073A4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4E4-1D4E-43EE-9C7F-390CC37B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79D-1A42-4398-B890-F2CE9BD8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914-0E2E-4681-8272-EB0BEF40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41B-0544-4C0A-BD88-049B883D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B25-5802-479C-AAE2-0A24A07A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0E5-C1B1-4558-B69C-4577EF69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E785-296A-4F09-BCFD-C72491D5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38D-D644-41AD-ACF6-8A66EF20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DCF-5155-431C-9256-FEF29B3F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3F3-8620-445F-8181-7EBC4241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1EA-7A83-4655-A6F9-7D1B3FCD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0C2B-EF75-4A7C-BF5D-023CF8F4D04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2075-213F-4F07-960F-9704523052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680" y="509760"/>
            <a:ext cx="8756640" cy="29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E 4-H STUDY OF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POSITIVE YOUTH DEVELOPMENT: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5560" y="3962160"/>
            <a:ext cx="82184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chard M. Lerner, Jacqueline V. Lerner, Erin Phelps, and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itute for Applied Research in Youth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ufts University, Medford,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7EA5-FD1A-4CE0-8889-37043251B00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90DA-9BEA-41AA-8F66-1EBAB2354B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7760" y="6631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9600" y="1547640"/>
            <a:ext cx="834552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are longitudinally studying these new students a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inimum of three times of measurement are needed to judge developmental change.  We are reporting for the first time the results from three times of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all, we have sampled more than 5,000 youth from 37 states and more than 2,000 paren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0333-BD52-4899-A366-4F05011AE89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F12B-37E1-4137-A7E0-1804A1E58A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4716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9600" y="1278000"/>
            <a:ext cx="83455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comparative purposes, our sample includes 4-H youth and non-4-H youth.  These groups of youth differ in sever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judge the differences between 4-H youth and other youth we need to create a matched sub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ever, this limits our ability to apply the findings to all 4-H y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4F05-EA82-47D0-B238-8F275F842A8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A8D7-E22F-45AA-A13B-11BAA24875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880" y="54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Key Principles of the PYD Perspective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6200" y="1707840"/>
            <a:ext cx="802944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of the potential to change, all youth have streng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contexts have strengths as well.  These strengths are resources that may be used to promote positive youth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resources are termed “developmental assets”:  They are the “social nutrients” needed for healthy develop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80E6-BDB8-43E6-B16A-36CAE9AD5C5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BF69-33AC-4959-B2A8-F495171E15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1880" y="54936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Key Principles of the PYD Perspective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6200" y="1781280"/>
            <a:ext cx="80294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s of youth are combined with ecological developmental assets. Then, these assets are found in families, schools, faith institutions, youth serving organizations, and the community more gener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ositive, healthy development may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may be optimistic that it is in our power to promote positive development among all you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AA81-D6BE-4FB2-BD69-1EA8384E581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5214-FFDC-4441-B8E0-B94AEB76BE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1.  PYD is constituted by “Five Cs: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5960" y="2468520"/>
            <a:ext cx="2955960" cy="326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Five 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 rot="16200000">
            <a:off x="4052880" y="3333240"/>
            <a:ext cx="960120" cy="690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378400" y="3313080"/>
            <a:ext cx="2421000" cy="520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ADA8-98D4-4B3B-B0B9-A22943B48E3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3850-6BF6-4D89-8A73-126D164E91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3320" y="549000"/>
            <a:ext cx="848844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e Five Cs are Related to the </a:t>
            </a:r>
            <a:br>
              <a:rPr sz="4400"/>
            </a:b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“Four Essential Elements”</a:t>
            </a:r>
            <a:r>
              <a:rPr b="1" lang="en-US" sz="4400" spc="-1" strike="noStrike" baseline="30000">
                <a:solidFill>
                  <a:srgbClr val="00ffff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0040" y="1904760"/>
            <a:ext cx="7805520" cy="459396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228600" bIns="13716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Cs of PY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4 Essential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N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 &amp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O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*As presented by Dr. Cathann Kres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A076-D35F-44CF-82C9-A1C2C735D3C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122C-DF66-456D-B450-F48A7DED73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85960" y="1393560"/>
            <a:ext cx="74880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ross adolescence, positive youth development occurs (that is, youth “thrive”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trengths of young people are aligned with the resources for healthy development (“developmental assets”) present in their commun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E0CF-A826-4018-8CFB-01B4E65CC89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B236-6352-4F4D-8C73-3085CC1DC2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Three Key Hypotheses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2640" y="1600200"/>
            <a:ext cx="738684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othesis 3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th Development (YD) programs constitute key developmental assets promoting PY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09480" y="3429000"/>
            <a:ext cx="7848720" cy="27255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D programs are marked by the presence of the “Big 3,” t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Sustained, positive adult-youth relation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Skill building activit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8fa3c"/>
                </a:solidFill>
                <a:latin typeface="Arial"/>
              </a:rPr>
              <a:t>and Youth participation and leader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306B-DB26-44D1-ABD7-FDCD60FA9EF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7214-CF49-46A8-AB1A-F53997041A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tems for discussion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 and participant 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support from Tuf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support for participating coun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place where faculty and staff can access materials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77B1-41AD-49D7-BE10-24F56C7D51E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CA83-A333-42A5-BE88-C4FD4CE93B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ite and Participant Recruitment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age – 9-12th gr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-H and non-4-H 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ner who will work with you to secure parent consent and administer the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 consent 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line option is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ufts find them in a ye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IDEAS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60EC-82FA-43FA-9951-AF331A60124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EE57-2085-4DDC-A239-ABD173B5C4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ufts Suppor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 sessions for data collectors – &lt;dat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kit of materials including: sample IRB forms, correspondence, news releases and other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 and e-mail for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 of producing the data collection materials can be reimbur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2724-06E9-4E5A-A4C0-049AC8AF370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9A84-2843-4AB5-B754-D7BF4C6045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ney $$$$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$ incentive from your stat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location of form to fill out to receive money from stat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-you gift from Tuf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face-to-face data 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0 gift credit with Amazo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year sites will be paid $50 by Tuf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2nd year or bey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for face-to-face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y number of surveys sub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FEE5-086E-4309-B0D8-B5F39C1CBF3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3371-9B82-4BE0-BFA0-02EBC6190D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ata Collection Expen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available for face-to-face data colle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track of copies produced and request reimbursement for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Student Questionnaires &lt;40&gt; pages @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ent Consent Forms – 4 pages @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Youth Assent Forms – 1 page @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ent letters – 2 pages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Additional printing – itemize @ $.05 per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ostage expenses will be reimbursed by Tuf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ther expenses will be reimbursed without prior approval from Tuf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6C47-EF4D-4A11-9B5D-BF3B806822F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854C-CB63-4FF4-B6BE-5BB0B28001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ediately – site recruitment, eI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s are ready: &lt;location where templates can be found&gt;, or on the National 4-H Brand Network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&lt;established date&gt; – letter of permission, set dates for administration, request needed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&lt;established date&gt; – complete administration and submit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 2009 – &lt;state&gt;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3B15-6C7B-44E2-ABF2-D2EDC23501D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EB26-BD78-4629-920F-D28DF196ED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por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set up statewide program with &lt;coordinator&gt; as Team Leader and data collectors as Team Membe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cheduling function to show planned sites/dat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035E-F6E2-432C-B41B-D35E700E991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-H Study of Positive Youth Development - Toolk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9F29-F014-4D70-97DE-33B7E3A71A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7760" y="5493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Design of the 4-H Stud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9600" y="1547640"/>
            <a:ext cx="8345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a longitudinal study:  Youth are followed acros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inning in 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rade, we are following some youth through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rade (and we hope past high scho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adjust for youth who drop out of the study and to maintain our ability to conduct powerful statistical analyses, we have added new students each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11:43Z</dcterms:created>
  <dc:creator>Temp</dc:creator>
  <dc:description/>
  <dc:language>en-US</dc:language>
  <cp:lastModifiedBy>scheermb</cp:lastModifiedBy>
  <dcterms:modified xsi:type="dcterms:W3CDTF">2008-12-11T15:35:31Z</dcterms:modified>
  <cp:revision>75</cp:revision>
  <dc:subject/>
  <dc:title>THE 4-H STUDY OF  POSITIVE YOUTH DEVELOPMENT: </dc:title>
</cp:coreProperties>
</file>